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wmf" ContentType="image/x-wmf"/>
  <Override PartName="/ppt/media/image3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F60A-5371-4025-A1FA-797F5C557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88920" y="2090880"/>
            <a:ext cx="748368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88920" y="3997080"/>
            <a:ext cx="748368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FFEB-9E6C-4D9B-B43D-7F6025026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88920" y="2090880"/>
            <a:ext cx="365184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23640" y="2090880"/>
            <a:ext cx="365184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88920" y="3997080"/>
            <a:ext cx="365184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23640" y="3997080"/>
            <a:ext cx="365184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D781-5A16-4919-B698-524BE3463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88920" y="2090880"/>
            <a:ext cx="240948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19360" y="2090880"/>
            <a:ext cx="240948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9440" y="2090880"/>
            <a:ext cx="240948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88920" y="3997080"/>
            <a:ext cx="240948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19360" y="3997080"/>
            <a:ext cx="240948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9440" y="3997080"/>
            <a:ext cx="240948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0035-2D80-4B94-82B2-7F4D8C78D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88920" y="2090880"/>
            <a:ext cx="748368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A4A1-DD56-4159-9B4B-E31861EC5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88920" y="2090880"/>
            <a:ext cx="748368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4050-766F-4073-AF63-F8FB0A93C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88920" y="2090880"/>
            <a:ext cx="365184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23640" y="2090880"/>
            <a:ext cx="365184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A64E-BAC8-4FB6-BD3D-9203B1152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5946-CE88-4F54-B762-80693ABF7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627280" y="685800"/>
            <a:ext cx="605952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0746-6ED4-46FA-A8DB-BA0B97E95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88920" y="2090880"/>
            <a:ext cx="365184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23640" y="2090880"/>
            <a:ext cx="365184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88920" y="3997080"/>
            <a:ext cx="365184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A34A-4F15-4C98-A125-BE6362D8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8920" y="2090880"/>
            <a:ext cx="365184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23640" y="2090880"/>
            <a:ext cx="365184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23640" y="3997080"/>
            <a:ext cx="365184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C15F-2BA1-4CB4-8742-7B9CB5A6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88920" y="2090880"/>
            <a:ext cx="365184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23640" y="2090880"/>
            <a:ext cx="365184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88920" y="3997080"/>
            <a:ext cx="748368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0183-BE90-4B3C-9E29-645C72E68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988920" y="2090880"/>
            <a:ext cx="748368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1212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079600" y="6381360"/>
            <a:ext cx="1359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6200" y="6381360"/>
            <a:ext cx="4276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451200" y="637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lide </a:t>
            </a:r>
            <a:fld id="{AB2384A3-E504-425D-AEED-EF24142B416A}" type="slidenum">
              <a:rPr b="0" lang="en-US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A Test-Case Generator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using logged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Field-Test Trace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R.Kießling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Narrow"/>
              </a:rPr>
              <a:t>January 22, 2004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TC Generation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… concept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28760" y="2050560"/>
            <a:ext cx="797688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 Narrow"/>
              </a:rPr>
              <a:t>The test-case generator TCGen is implemented as a so-called PCO-View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Narrow"/>
              </a:rPr>
              <a:t>... to request logfile data from PCO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 Narrow"/>
              </a:rPr>
              <a:t>Primitive interpretation is done using the databas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Narrow"/>
              </a:rPr>
              <a:t>... which has to match the PS monitored during field-tes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 Narrow"/>
              </a:rPr>
              <a:t>TDC is a proprietary test script languag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Narrow"/>
              </a:rPr>
              <a:t>... in which test cases will be generate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8" name=""/>
          <p:cNvSpPr/>
          <p:nvPr/>
        </p:nvSpPr>
        <p:spPr>
          <a:xfrm>
            <a:off x="212760" y="1714680"/>
            <a:ext cx="8691480" cy="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109960" y="4613400"/>
            <a:ext cx="1357200" cy="1014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5178600" y="4354560"/>
            <a:ext cx="1573200" cy="2145960"/>
            <a:chOff x="5178600" y="4354560"/>
            <a:chExt cx="1573200" cy="2145960"/>
          </a:xfrm>
        </p:grpSpPr>
        <p:grpSp>
          <p:nvGrpSpPr>
            <p:cNvPr id="191" name=""/>
            <p:cNvGrpSpPr/>
            <p:nvPr/>
          </p:nvGrpSpPr>
          <p:grpSpPr>
            <a:xfrm>
              <a:off x="5178600" y="4354560"/>
              <a:ext cx="1573200" cy="1435680"/>
              <a:chOff x="5178600" y="4354560"/>
              <a:chExt cx="1573200" cy="1435680"/>
            </a:xfrm>
          </p:grpSpPr>
          <p:sp>
            <p:nvSpPr>
              <p:cNvPr id="192" name=""/>
              <p:cNvSpPr/>
              <p:nvPr/>
            </p:nvSpPr>
            <p:spPr>
              <a:xfrm>
                <a:off x="5841000" y="4399200"/>
                <a:ext cx="326520" cy="182880"/>
              </a:xfrm>
              <a:custGeom>
                <a:avLst/>
                <a:gdLst/>
                <a:ahLst/>
                <a:rect l="l" t="t" r="r" b="b"/>
                <a:pathLst>
                  <a:path w="48" h="31">
                    <a:moveTo>
                      <a:pt x="9" y="0"/>
                    </a:moveTo>
                    <a:lnTo>
                      <a:pt x="38" y="0"/>
                    </a:lnTo>
                    <a:lnTo>
                      <a:pt x="48" y="31"/>
                    </a:lnTo>
                    <a:lnTo>
                      <a:pt x="0" y="3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33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561360" y="4958280"/>
                <a:ext cx="190440" cy="299160"/>
              </a:xfrm>
              <a:custGeom>
                <a:avLst/>
                <a:gdLst/>
                <a:ahLst/>
                <a:rect l="l" t="t" r="r" b="b"/>
                <a:pathLst>
                  <a:path w="28" h="51">
                    <a:moveTo>
                      <a:pt x="28" y="10"/>
                    </a:moveTo>
                    <a:lnTo>
                      <a:pt x="28" y="41"/>
                    </a:lnTo>
                    <a:lnTo>
                      <a:pt x="0" y="51"/>
                    </a:lnTo>
                    <a:lnTo>
                      <a:pt x="0" y="0"/>
                    </a:lnTo>
                    <a:lnTo>
                      <a:pt x="28" y="10"/>
                    </a:lnTo>
                    <a:close/>
                  </a:path>
                </a:pathLst>
              </a:custGeom>
              <a:solidFill>
                <a:srgbClr val="ff33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245200" y="4958280"/>
                <a:ext cx="185760" cy="288720"/>
              </a:xfrm>
              <a:custGeom>
                <a:avLst/>
                <a:gdLst/>
                <a:ahLst/>
                <a:rect l="l" t="t" r="r" b="b"/>
                <a:pathLst>
                  <a:path w="27" h="50">
                    <a:moveTo>
                      <a:pt x="0" y="10"/>
                    </a:moveTo>
                    <a:lnTo>
                      <a:pt x="0" y="40"/>
                    </a:lnTo>
                    <a:lnTo>
                      <a:pt x="27" y="50"/>
                    </a:lnTo>
                    <a:lnTo>
                      <a:pt x="27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33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369040" y="4556880"/>
                <a:ext cx="322920" cy="289800"/>
              </a:xfrm>
              <a:custGeom>
                <a:avLst/>
                <a:gdLst/>
                <a:ahLst/>
                <a:rect l="l" t="t" r="r" b="b"/>
                <a:pathLst>
                  <a:path w="48" h="50">
                    <a:moveTo>
                      <a:pt x="16" y="50"/>
                    </a:moveTo>
                    <a:lnTo>
                      <a:pt x="48" y="13"/>
                    </a:lnTo>
                    <a:lnTo>
                      <a:pt x="20" y="0"/>
                    </a:lnTo>
                    <a:lnTo>
                      <a:pt x="0" y="22"/>
                    </a:lnTo>
                    <a:lnTo>
                      <a:pt x="16" y="50"/>
                    </a:lnTo>
                    <a:close/>
                  </a:path>
                </a:pathLst>
              </a:custGeom>
              <a:solidFill>
                <a:srgbClr val="ff33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296400" y="4562640"/>
                <a:ext cx="326520" cy="293400"/>
              </a:xfrm>
              <a:custGeom>
                <a:avLst/>
                <a:gdLst/>
                <a:ahLst/>
                <a:rect l="l" t="t" r="r" b="b"/>
                <a:pathLst>
                  <a:path w="48" h="50">
                    <a:moveTo>
                      <a:pt x="32" y="50"/>
                    </a:moveTo>
                    <a:lnTo>
                      <a:pt x="0" y="13"/>
                    </a:lnTo>
                    <a:lnTo>
                      <a:pt x="28" y="0"/>
                    </a:lnTo>
                    <a:lnTo>
                      <a:pt x="48" y="22"/>
                    </a:lnTo>
                    <a:lnTo>
                      <a:pt x="32" y="50"/>
                    </a:lnTo>
                    <a:close/>
                  </a:path>
                </a:pathLst>
              </a:custGeom>
              <a:solidFill>
                <a:srgbClr val="ff33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369040" y="5348520"/>
                <a:ext cx="322920" cy="288720"/>
              </a:xfrm>
              <a:custGeom>
                <a:avLst/>
                <a:gdLst/>
                <a:ahLst/>
                <a:rect l="l" t="t" r="r" b="b"/>
                <a:pathLst>
                  <a:path w="48" h="50">
                    <a:moveTo>
                      <a:pt x="17" y="0"/>
                    </a:moveTo>
                    <a:lnTo>
                      <a:pt x="48" y="36"/>
                    </a:lnTo>
                    <a:lnTo>
                      <a:pt x="20" y="50"/>
                    </a:lnTo>
                    <a:lnTo>
                      <a:pt x="0" y="28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33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305040" y="5343840"/>
                <a:ext cx="317880" cy="293400"/>
              </a:xfrm>
              <a:custGeom>
                <a:avLst/>
                <a:gdLst/>
                <a:ahLst/>
                <a:rect l="l" t="t" r="r" b="b"/>
                <a:pathLst>
                  <a:path w="47" h="51">
                    <a:moveTo>
                      <a:pt x="31" y="0"/>
                    </a:moveTo>
                    <a:lnTo>
                      <a:pt x="0" y="37"/>
                    </a:lnTo>
                    <a:lnTo>
                      <a:pt x="28" y="51"/>
                    </a:lnTo>
                    <a:lnTo>
                      <a:pt x="47" y="29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33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837400" y="5622480"/>
                <a:ext cx="317880" cy="167760"/>
              </a:xfrm>
              <a:custGeom>
                <a:avLst/>
                <a:gdLst/>
                <a:ahLst/>
                <a:rect l="l" t="t" r="r" b="b"/>
                <a:pathLst>
                  <a:path w="47" h="29">
                    <a:moveTo>
                      <a:pt x="9" y="29"/>
                    </a:moveTo>
                    <a:lnTo>
                      <a:pt x="37" y="29"/>
                    </a:lnTo>
                    <a:lnTo>
                      <a:pt x="47" y="0"/>
                    </a:lnTo>
                    <a:lnTo>
                      <a:pt x="0" y="0"/>
                    </a:lnTo>
                    <a:lnTo>
                      <a:pt x="9" y="29"/>
                    </a:lnTo>
                    <a:close/>
                  </a:path>
                </a:pathLst>
              </a:custGeom>
              <a:solidFill>
                <a:srgbClr val="ff33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415120" y="4562640"/>
                <a:ext cx="1145880" cy="1059480"/>
              </a:xfrm>
              <a:prstGeom prst="ellipse">
                <a:avLst/>
              </a:prstGeom>
              <a:solidFill>
                <a:srgbClr val="ff33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774400" y="4354560"/>
                <a:ext cx="318960" cy="166680"/>
              </a:xfrm>
              <a:custGeom>
                <a:avLst/>
                <a:gdLst/>
                <a:ahLst/>
                <a:rect l="l" t="t" r="r" b="b"/>
                <a:pathLst>
                  <a:path w="47" h="29">
                    <a:moveTo>
                      <a:pt x="9" y="0"/>
                    </a:moveTo>
                    <a:lnTo>
                      <a:pt x="38" y="0"/>
                    </a:lnTo>
                    <a:lnTo>
                      <a:pt x="47" y="29"/>
                    </a:lnTo>
                    <a:lnTo>
                      <a:pt x="0" y="29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33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495480" y="4906800"/>
                <a:ext cx="194040" cy="294480"/>
              </a:xfrm>
              <a:custGeom>
                <a:avLst/>
                <a:gdLst/>
                <a:ahLst/>
                <a:rect l="l" t="t" r="r" b="b"/>
                <a:pathLst>
                  <a:path w="29" h="51">
                    <a:moveTo>
                      <a:pt x="29" y="10"/>
                    </a:moveTo>
                    <a:lnTo>
                      <a:pt x="29" y="41"/>
                    </a:lnTo>
                    <a:lnTo>
                      <a:pt x="0" y="51"/>
                    </a:lnTo>
                    <a:lnTo>
                      <a:pt x="0" y="0"/>
                    </a:lnTo>
                    <a:lnTo>
                      <a:pt x="29" y="10"/>
                    </a:lnTo>
                    <a:close/>
                  </a:path>
                </a:pathLst>
              </a:custGeom>
              <a:solidFill>
                <a:srgbClr val="ff33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178600" y="4902120"/>
                <a:ext cx="190440" cy="299160"/>
              </a:xfrm>
              <a:custGeom>
                <a:avLst/>
                <a:gdLst/>
                <a:ahLst/>
                <a:rect l="l" t="t" r="r" b="b"/>
                <a:pathLst>
                  <a:path w="28" h="52">
                    <a:moveTo>
                      <a:pt x="0" y="10"/>
                    </a:moveTo>
                    <a:lnTo>
                      <a:pt x="0" y="42"/>
                    </a:lnTo>
                    <a:lnTo>
                      <a:pt x="28" y="52"/>
                    </a:lnTo>
                    <a:lnTo>
                      <a:pt x="28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33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307120" y="4506120"/>
                <a:ext cx="318960" cy="288720"/>
              </a:xfrm>
              <a:custGeom>
                <a:avLst/>
                <a:gdLst/>
                <a:ahLst/>
                <a:rect l="l" t="t" r="r" b="b"/>
                <a:pathLst>
                  <a:path w="47" h="50">
                    <a:moveTo>
                      <a:pt x="16" y="50"/>
                    </a:moveTo>
                    <a:lnTo>
                      <a:pt x="47" y="13"/>
                    </a:lnTo>
                    <a:lnTo>
                      <a:pt x="19" y="0"/>
                    </a:lnTo>
                    <a:lnTo>
                      <a:pt x="0" y="22"/>
                    </a:lnTo>
                    <a:lnTo>
                      <a:pt x="16" y="50"/>
                    </a:lnTo>
                    <a:close/>
                  </a:path>
                </a:pathLst>
              </a:custGeom>
              <a:solidFill>
                <a:srgbClr val="ff33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234480" y="4506120"/>
                <a:ext cx="317880" cy="294480"/>
              </a:xfrm>
              <a:custGeom>
                <a:avLst/>
                <a:gdLst/>
                <a:ahLst/>
                <a:rect l="l" t="t" r="r" b="b"/>
                <a:pathLst>
                  <a:path w="47" h="51">
                    <a:moveTo>
                      <a:pt x="31" y="51"/>
                    </a:moveTo>
                    <a:lnTo>
                      <a:pt x="0" y="14"/>
                    </a:lnTo>
                    <a:lnTo>
                      <a:pt x="28" y="0"/>
                    </a:lnTo>
                    <a:lnTo>
                      <a:pt x="47" y="23"/>
                    </a:lnTo>
                    <a:lnTo>
                      <a:pt x="31" y="51"/>
                    </a:lnTo>
                    <a:close/>
                  </a:path>
                </a:pathLst>
              </a:custGeom>
              <a:solidFill>
                <a:srgbClr val="ff33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307120" y="5297760"/>
                <a:ext cx="327600" cy="288720"/>
              </a:xfrm>
              <a:custGeom>
                <a:avLst/>
                <a:gdLst/>
                <a:ahLst/>
                <a:rect l="l" t="t" r="r" b="b"/>
                <a:pathLst>
                  <a:path w="48" h="50">
                    <a:moveTo>
                      <a:pt x="17" y="0"/>
                    </a:moveTo>
                    <a:lnTo>
                      <a:pt x="48" y="37"/>
                    </a:lnTo>
                    <a:lnTo>
                      <a:pt x="19" y="50"/>
                    </a:lnTo>
                    <a:lnTo>
                      <a:pt x="0" y="28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33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6243120" y="5287680"/>
                <a:ext cx="317880" cy="299160"/>
              </a:xfrm>
              <a:custGeom>
                <a:avLst/>
                <a:gdLst/>
                <a:ahLst/>
                <a:rect l="l" t="t" r="r" b="b"/>
                <a:pathLst>
                  <a:path w="47" h="51">
                    <a:moveTo>
                      <a:pt x="31" y="0"/>
                    </a:moveTo>
                    <a:lnTo>
                      <a:pt x="0" y="37"/>
                    </a:lnTo>
                    <a:lnTo>
                      <a:pt x="28" y="51"/>
                    </a:lnTo>
                    <a:lnTo>
                      <a:pt x="47" y="28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33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766840" y="5561280"/>
                <a:ext cx="317880" cy="178200"/>
              </a:xfrm>
              <a:custGeom>
                <a:avLst/>
                <a:gdLst/>
                <a:ahLst/>
                <a:rect l="l" t="t" r="r" b="b"/>
                <a:pathLst>
                  <a:path w="47" h="30">
                    <a:moveTo>
                      <a:pt x="9" y="30"/>
                    </a:moveTo>
                    <a:lnTo>
                      <a:pt x="37" y="30"/>
                    </a:lnTo>
                    <a:lnTo>
                      <a:pt x="47" y="0"/>
                    </a:lnTo>
                    <a:lnTo>
                      <a:pt x="0" y="0"/>
                    </a:lnTo>
                    <a:lnTo>
                      <a:pt x="9" y="30"/>
                    </a:lnTo>
                    <a:close/>
                  </a:path>
                </a:pathLst>
              </a:custGeom>
              <a:solidFill>
                <a:srgbClr val="ff33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348160" y="4516560"/>
                <a:ext cx="1150560" cy="1060560"/>
              </a:xfrm>
              <a:prstGeom prst="ellipse">
                <a:avLst/>
              </a:prstGeom>
              <a:solidFill>
                <a:srgbClr val="ff33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783040" y="4906800"/>
                <a:ext cx="425880" cy="395640"/>
              </a:xfrm>
              <a:prstGeom prst="ellipse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741640" y="4866480"/>
                <a:ext cx="425880" cy="395640"/>
              </a:xfrm>
              <a:prstGeom prst="ellipse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741640" y="4866480"/>
                <a:ext cx="446760" cy="410760"/>
              </a:xfrm>
              <a:prstGeom prst="ellipse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712480" y="4836600"/>
                <a:ext cx="413640" cy="385200"/>
              </a:xfrm>
              <a:prstGeom prst="ellipse">
                <a:avLst/>
              </a:prstGeom>
              <a:solidFill>
                <a:srgbClr val="ff33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>
              <a:off x="5295960" y="5858280"/>
              <a:ext cx="132516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800"/>
              </a:b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TCGe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411120" y="4749840"/>
            <a:ext cx="1193760" cy="104148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og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de-DE" sz="1000" spc="-1" strike="noStrike">
                <a:solidFill>
                  <a:srgbClr val="333399"/>
                </a:solidFill>
                <a:latin typeface="Arial"/>
              </a:rPr>
              <a:t>100010010100</a:t>
            </a:r>
            <a:br>
              <a:rPr sz="1000"/>
            </a:br>
            <a:r>
              <a:rPr b="0" lang="de-DE" sz="1000" spc="-1" strike="noStrike">
                <a:solidFill>
                  <a:srgbClr val="333399"/>
                </a:solidFill>
                <a:latin typeface="Arial"/>
              </a:rPr>
              <a:t>0110011101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96960" y="5084640"/>
            <a:ext cx="51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475080" y="5065560"/>
            <a:ext cx="1681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772080" y="5087880"/>
            <a:ext cx="113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iver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ie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92760" y="5346720"/>
            <a:ext cx="675000" cy="320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4400" y="5064120"/>
            <a:ext cx="1417680" cy="119700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D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est-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300800" y="3027240"/>
            <a:ext cx="1527120" cy="133848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C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595920" y="3892680"/>
            <a:ext cx="671760" cy="70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Test-Case Generator using logged Field-Test Traces, R.Kieß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82B2-16A9-4211-BBAB-DC61FB05D6D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22/04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TC Generation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… algorithm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12760" y="1898640"/>
            <a:ext cx="82389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 Narrow"/>
              </a:rPr>
              <a:t>The user specifies one or more entities to TCGen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 Narrow"/>
              </a:rPr>
              <a:t>... which will be considered as the entity block under test (EUT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5" name=""/>
          <p:cNvSpPr/>
          <p:nvPr/>
        </p:nvSpPr>
        <p:spPr>
          <a:xfrm>
            <a:off x="212760" y="1714680"/>
            <a:ext cx="8691480" cy="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411880" y="3159000"/>
            <a:ext cx="3362400" cy="89712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1095480" y="3960720"/>
            <a:ext cx="2977920" cy="238464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28" name=""/>
          <p:cNvSpPr/>
          <p:nvPr/>
        </p:nvSpPr>
        <p:spPr>
          <a:xfrm>
            <a:off x="203040" y="2714760"/>
            <a:ext cx="8379000" cy="20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 Narrow"/>
              </a:rPr>
              <a:t>Recorded primitives are examined in an initial pass to generate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 Narrow"/>
              </a:rPr>
              <a:t>SEND-commands for all data received by the EU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 Narrow"/>
              </a:rPr>
              <a:t>AWAIT-commands for all data emitted by the E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195800" y="4444920"/>
            <a:ext cx="4449600" cy="13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 Narrow"/>
              </a:rPr>
              <a:t>By further passes definitions of the primitive content are cre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 Narrow"/>
              </a:rPr>
              <a:t>... according to the values actually used during the field-t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Test-Case Generator using logged Field-Test Traces, R.Kieß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CCC2-CEC9-4CDF-B4DC-A2010A1B0F6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22/04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TC Generation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… rules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0040" y="1974960"/>
            <a:ext cx="812808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 Narrow"/>
              </a:rPr>
              <a:t>TCGen supports rule files in XML format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Narrow"/>
              </a:rPr>
              <a:t>to automatically apply needed modifications of the data recorde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2" name=""/>
          <p:cNvSpPr/>
          <p:nvPr/>
        </p:nvSpPr>
        <p:spPr>
          <a:xfrm>
            <a:off x="212760" y="1714680"/>
            <a:ext cx="8691480" cy="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5286240"/>
            <a:ext cx="7656480" cy="9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 Narrow"/>
              </a:rPr>
              <a:t>Test cases can also be adapted manuall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Narrow"/>
              </a:rPr>
              <a:t>... because they are generated in a human readable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760920" y="3432240"/>
            <a:ext cx="4838400" cy="1706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35" name=""/>
          <p:cNvSpPr/>
          <p:nvPr/>
        </p:nvSpPr>
        <p:spPr>
          <a:xfrm>
            <a:off x="592200" y="3436920"/>
            <a:ext cx="2712960" cy="1638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ind_primitive_elemen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pply_rul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rite_elemen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43240" y="3121200"/>
            <a:ext cx="199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neration frag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01720" y="4272120"/>
            <a:ext cx="1158840" cy="18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740760" y="3112920"/>
            <a:ext cx="166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ule file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Test-Case Generator using logged Field-Test Traces, R.Kieß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611F-62CC-41E7-A534-37A48EA5620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22/04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TC Execution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… TAP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72520" y="1955880"/>
            <a:ext cx="865188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 Narrow"/>
              </a:rPr>
              <a:t>The tool TAP can be used to execute generated test-case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Narrow"/>
              </a:rPr>
              <a:t>... together with a real target or a simulation of the protocol stack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 Narrow"/>
              </a:rPr>
              <a:t>Such test runs can be regression test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Narrow"/>
              </a:rPr>
              <a:t>... if, e.g., a succesful phone call has been recorde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 Narrow"/>
              </a:rPr>
              <a:t>... or reproductions of erroneous behaviour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1" name=""/>
          <p:cNvSpPr/>
          <p:nvPr/>
        </p:nvSpPr>
        <p:spPr>
          <a:xfrm>
            <a:off x="212760" y="1714680"/>
            <a:ext cx="8691480" cy="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2478240" y="4506840"/>
            <a:ext cx="3630600" cy="18241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351000" y="4835520"/>
            <a:ext cx="1487160" cy="128736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ener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D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est-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859040" y="5506920"/>
            <a:ext cx="652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618320" y="4613400"/>
            <a:ext cx="1214640" cy="165708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on P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6141960" y="5540400"/>
            <a:ext cx="1467000" cy="9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353280" y="5549760"/>
            <a:ext cx="106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ha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Test-Case Generator using logged Field-Test Traces, R.Kieß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9A8E-4007-46FE-BAD8-5F27D55DD2F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22/04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TC Execution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… entity isolation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38200" y="1869840"/>
            <a:ext cx="8299440" cy="14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 Narrow"/>
              </a:rPr>
              <a:t>To avoid disturbances from other entities the EUT have to be isolated inside the tested P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Narrow"/>
              </a:rPr>
              <a:t>... this is supported by the routing mechanisms of the generic GPF-FRAM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0" name=""/>
          <p:cNvSpPr/>
          <p:nvPr/>
        </p:nvSpPr>
        <p:spPr>
          <a:xfrm>
            <a:off x="212760" y="1714680"/>
            <a:ext cx="8691480" cy="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876920"/>
            <a:ext cx="38098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 Narrow"/>
              </a:rPr>
              <a:t>This way no real air-network is 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Narrow"/>
              </a:rPr>
              <a:t>... to, e.g., retrace an error in a specific ent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85800" y="3114720"/>
            <a:ext cx="2178000" cy="28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547640" y="3265560"/>
            <a:ext cx="993960" cy="241200"/>
          </a:xfrm>
          <a:prstGeom prst="rect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ity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579680" y="5549760"/>
            <a:ext cx="993600" cy="241560"/>
          </a:xfrm>
          <a:prstGeom prst="rect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ity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60600" y="4267080"/>
            <a:ext cx="993600" cy="241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ity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571760" y="4648320"/>
            <a:ext cx="993600" cy="241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tity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63200" y="5943600"/>
            <a:ext cx="149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otocol 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68280" y="4114800"/>
            <a:ext cx="111240" cy="903240"/>
          </a:xfrm>
          <a:custGeom>
            <a:avLst/>
            <a:gdLst>
              <a:gd name="textAreaLeft" fmla="*/ 71280 w 111240"/>
              <a:gd name="textAreaRight" fmla="*/ 111600 w 111240"/>
              <a:gd name="textAreaTop" fmla="*/ 23400 h 903240"/>
              <a:gd name="textAreaBottom" fmla="*/ 879840 h 903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62120" y="4416480"/>
            <a:ext cx="5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828800" y="44956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09680" y="44956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09680" y="5029200"/>
            <a:ext cx="0" cy="53352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rot="2708400">
            <a:off x="2017440" y="5348160"/>
            <a:ext cx="380880" cy="228600"/>
          </a:xfrm>
          <a:custGeom>
            <a:avLst/>
            <a:gdLst>
              <a:gd name="textAreaLeft" fmla="*/ 156960 w 380880"/>
              <a:gd name="textAreaRight" fmla="*/ 223920 w 38088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05520" y="3200400"/>
            <a:ext cx="38862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 Narrow"/>
              </a:rPr>
              <a:t>Adequate routing commands are contained in the test-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Narrow"/>
              </a:rPr>
              <a:t>... also generated by TC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581280" y="3581280"/>
            <a:ext cx="1219320" cy="198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T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828800" y="48769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209680" y="487692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09680" y="5029200"/>
            <a:ext cx="1371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828800" y="51814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828800" y="5181480"/>
            <a:ext cx="0" cy="3812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rot="2708400">
            <a:off x="1638360" y="5248080"/>
            <a:ext cx="380880" cy="228600"/>
          </a:xfrm>
          <a:custGeom>
            <a:avLst/>
            <a:gdLst>
              <a:gd name="textAreaLeft" fmla="*/ 156960 w 380880"/>
              <a:gd name="textAreaRight" fmla="*/ 223920 w 38088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09680" y="3505320"/>
            <a:ext cx="0" cy="53316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rot="2708400">
            <a:off x="2018880" y="3571560"/>
            <a:ext cx="381240" cy="228600"/>
          </a:xfrm>
          <a:custGeom>
            <a:avLst/>
            <a:gdLst>
              <a:gd name="textAreaLeft" fmla="*/ 156960 w 381240"/>
              <a:gd name="textAreaRight" fmla="*/ 224280 w 38124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1828800" y="3538440"/>
            <a:ext cx="1440" cy="34776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rot="2708400">
            <a:off x="1639800" y="3504960"/>
            <a:ext cx="380880" cy="228600"/>
          </a:xfrm>
          <a:custGeom>
            <a:avLst/>
            <a:gdLst>
              <a:gd name="textAreaLeft" fmla="*/ 156960 w 380880"/>
              <a:gd name="textAreaRight" fmla="*/ 223920 w 38088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209680" y="40384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09680" y="4038480"/>
            <a:ext cx="1371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828800" y="388620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828800" y="38862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Test-Case Generator using logged Field-Test Traces, R.Kieß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D271-39AB-4074-B57C-F51EE974B98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22/04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Current Limitations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42800" y="2031480"/>
            <a:ext cx="6942240" cy="42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 Narrow"/>
              </a:rPr>
              <a:t>Only selected parts of the protocol stack can be logged 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Narrow"/>
              </a:rPr>
              <a:t>... due to insufficient data rates currently available on the test interfac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Not all communications between entities can be duplicated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Narrow"/>
              </a:rPr>
              <a:t>... because at some points functional interfaces are used for performance reason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…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but solutions are on the way !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2" name=""/>
          <p:cNvSpPr/>
          <p:nvPr/>
        </p:nvSpPr>
        <p:spPr>
          <a:xfrm>
            <a:off x="7016760" y="2847960"/>
            <a:ext cx="1589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0" spc="-1" strike="noStrike">
                <a:solidFill>
                  <a:srgbClr val="ffff00"/>
                </a:solidFill>
                <a:latin typeface="Wingdings"/>
                <a:ea typeface="Wingdings"/>
              </a:rPr>
              <a:t>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12760" y="1714680"/>
            <a:ext cx="8691480" cy="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Test-Case Generator using logged Field-Test Traces, R.Kieß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54B7-A038-4FD9-A38C-E9E1F5F3202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22/04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Future Plannings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591000" y="2020680"/>
            <a:ext cx="5052960" cy="12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 Narrow"/>
              </a:rPr>
              <a:t>Support of other test script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Narrow"/>
              </a:rPr>
              <a:t>... e.g. TTCN-3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6" name=""/>
          <p:cNvSpPr/>
          <p:nvPr/>
        </p:nvSpPr>
        <p:spPr>
          <a:xfrm>
            <a:off x="212760" y="1714680"/>
            <a:ext cx="8691480" cy="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366840" y="1774800"/>
            <a:ext cx="3327120" cy="29512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2446200" y="3378240"/>
            <a:ext cx="6139080" cy="28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 Narrow"/>
              </a:rPr>
              <a:t>Enhanced possibilities in rule 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Narrow"/>
              </a:rPr>
              <a:t>... e.g. regular expre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 Narrow"/>
              </a:rPr>
              <a:t>Consideration of further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Narrow"/>
              </a:rPr>
              <a:t>... e.g. message sequence cha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Test-Case Generator using logged Field-Test Traces, R.Kieß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F786-A558-4753-9E4D-0465E9166E3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22/04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Outline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50920" y="2090880"/>
            <a:ext cx="573552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 Narrow"/>
              </a:rPr>
              <a:t>General Idea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 Narrow"/>
              </a:rPr>
              <a:t>Field-Test Logging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 Narrow"/>
              </a:rPr>
              <a:t>Protocol Stack Structure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 Narrow"/>
              </a:rPr>
              <a:t>Test-Case Generation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 Narrow"/>
              </a:rPr>
              <a:t>Test-Case Execution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 Narrow"/>
              </a:rPr>
              <a:t>Current Limitation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 Narrow"/>
              </a:rPr>
              <a:t>Future Planning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"/>
          <p:cNvSpPr/>
          <p:nvPr/>
        </p:nvSpPr>
        <p:spPr>
          <a:xfrm>
            <a:off x="212760" y="1714680"/>
            <a:ext cx="8691480" cy="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Test-Case Generator using logged Field-Test Traces, R.Kieß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9C1E-BE54-493A-B558-FCBDEF6243D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22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General Idea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… background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88920" y="2090880"/>
            <a:ext cx="748368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Testing is still the main possibility to find errors in today’s software 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specially if we have to deal with complex architectures as can be found inside protocol stacks of mobile devices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Writing test-cases (TC) is a critic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cedure often neglected 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Narrow"/>
              </a:rPr>
              <a:t>... due to a lack of automation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"/>
          <p:cNvSpPr/>
          <p:nvPr/>
        </p:nvSpPr>
        <p:spPr>
          <a:xfrm>
            <a:off x="7043760" y="4270320"/>
            <a:ext cx="1589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0" spc="-1" strike="noStrike">
                <a:solidFill>
                  <a:srgbClr val="ff3300"/>
                </a:solidFill>
                <a:latin typeface="Wingdings"/>
                <a:ea typeface="Wingdings"/>
              </a:rPr>
              <a:t>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2760" y="1714680"/>
            <a:ext cx="8691480" cy="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Test-Case Generator using logged Field-Test Traces, R.Kieß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6207-3F06-4D77-84B8-742BAB2ADBC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22/04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General Idea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… intention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94800" y="1868400"/>
            <a:ext cx="8007480" cy="22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 Narrow"/>
              </a:rPr>
              <a:t>Test-Case generators which use, e.g., specifications ..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Narrow"/>
              </a:rPr>
              <a:t>need detailed behaviour descriptions in a certain forma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Narrow"/>
              </a:rPr>
              <a:t>are quite complex to impleme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"/>
          <p:cNvSpPr/>
          <p:nvPr/>
        </p:nvSpPr>
        <p:spPr>
          <a:xfrm>
            <a:off x="752400" y="4200480"/>
            <a:ext cx="1589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0" spc="-1" strike="noStrike">
                <a:solidFill>
                  <a:srgbClr val="66ff33"/>
                </a:solidFill>
                <a:latin typeface="Wingdings"/>
                <a:ea typeface="Wingdings"/>
              </a:rPr>
              <a:t>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63840" y="3935520"/>
            <a:ext cx="6027840" cy="23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 Narrow"/>
              </a:rPr>
              <a:t>Why not use actual data collected anyway during field-tes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Narrow"/>
              </a:rPr>
              <a:t>to easily create regression t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Narrow"/>
              </a:rPr>
              <a:t>to conveniently reproduce bu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2760" y="1714680"/>
            <a:ext cx="8691480" cy="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Test-Case Generator using logged Field-Test Traces, R.Kieß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9CE9-F682-40EE-8F5B-9AF5171CA4D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22/04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76480" y="1908000"/>
            <a:ext cx="1722240" cy="18129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General Idea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… data flow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579760" y="3529080"/>
            <a:ext cx="431640" cy="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65800" y="2855880"/>
            <a:ext cx="3352680" cy="19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4780440" y="3014640"/>
            <a:ext cx="1233720" cy="1820880"/>
            <a:chOff x="4780440" y="3014640"/>
            <a:chExt cx="1233720" cy="1820880"/>
          </a:xfrm>
        </p:grpSpPr>
        <p:grpSp>
          <p:nvGrpSpPr>
            <p:cNvPr id="61" name=""/>
            <p:cNvGrpSpPr/>
            <p:nvPr/>
          </p:nvGrpSpPr>
          <p:grpSpPr>
            <a:xfrm>
              <a:off x="4827960" y="3014640"/>
              <a:ext cx="1150560" cy="1030680"/>
              <a:chOff x="4827960" y="3014640"/>
              <a:chExt cx="1150560" cy="1030680"/>
            </a:xfrm>
          </p:grpSpPr>
          <p:sp>
            <p:nvSpPr>
              <p:cNvPr id="62" name=""/>
              <p:cNvSpPr/>
              <p:nvPr/>
            </p:nvSpPr>
            <p:spPr>
              <a:xfrm>
                <a:off x="5312520" y="3046680"/>
                <a:ext cx="238680" cy="131040"/>
              </a:xfrm>
              <a:custGeom>
                <a:avLst/>
                <a:gdLst/>
                <a:ahLst/>
                <a:rect l="l" t="t" r="r" b="b"/>
                <a:pathLst>
                  <a:path w="48" h="31">
                    <a:moveTo>
                      <a:pt x="9" y="0"/>
                    </a:moveTo>
                    <a:lnTo>
                      <a:pt x="38" y="0"/>
                    </a:lnTo>
                    <a:lnTo>
                      <a:pt x="48" y="31"/>
                    </a:lnTo>
                    <a:lnTo>
                      <a:pt x="0" y="3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33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839200" y="3448080"/>
                <a:ext cx="139320" cy="214560"/>
              </a:xfrm>
              <a:custGeom>
                <a:avLst/>
                <a:gdLst/>
                <a:ahLst/>
                <a:rect l="l" t="t" r="r" b="b"/>
                <a:pathLst>
                  <a:path w="28" h="51">
                    <a:moveTo>
                      <a:pt x="28" y="10"/>
                    </a:moveTo>
                    <a:lnTo>
                      <a:pt x="28" y="41"/>
                    </a:lnTo>
                    <a:lnTo>
                      <a:pt x="0" y="51"/>
                    </a:lnTo>
                    <a:lnTo>
                      <a:pt x="0" y="0"/>
                    </a:lnTo>
                    <a:lnTo>
                      <a:pt x="28" y="10"/>
                    </a:lnTo>
                    <a:close/>
                  </a:path>
                </a:pathLst>
              </a:custGeom>
              <a:solidFill>
                <a:srgbClr val="ff33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876560" y="3448080"/>
                <a:ext cx="135720" cy="207000"/>
              </a:xfrm>
              <a:custGeom>
                <a:avLst/>
                <a:gdLst/>
                <a:ahLst/>
                <a:rect l="l" t="t" r="r" b="b"/>
                <a:pathLst>
                  <a:path w="27" h="50">
                    <a:moveTo>
                      <a:pt x="0" y="10"/>
                    </a:moveTo>
                    <a:lnTo>
                      <a:pt x="0" y="40"/>
                    </a:lnTo>
                    <a:lnTo>
                      <a:pt x="27" y="50"/>
                    </a:lnTo>
                    <a:lnTo>
                      <a:pt x="27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33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967280" y="3159720"/>
                <a:ext cx="236160" cy="208080"/>
              </a:xfrm>
              <a:custGeom>
                <a:avLst/>
                <a:gdLst/>
                <a:ahLst/>
                <a:rect l="l" t="t" r="r" b="b"/>
                <a:pathLst>
                  <a:path w="48" h="50">
                    <a:moveTo>
                      <a:pt x="16" y="50"/>
                    </a:moveTo>
                    <a:lnTo>
                      <a:pt x="48" y="13"/>
                    </a:lnTo>
                    <a:lnTo>
                      <a:pt x="20" y="0"/>
                    </a:lnTo>
                    <a:lnTo>
                      <a:pt x="0" y="22"/>
                    </a:lnTo>
                    <a:lnTo>
                      <a:pt x="16" y="50"/>
                    </a:lnTo>
                    <a:close/>
                  </a:path>
                </a:pathLst>
              </a:custGeom>
              <a:solidFill>
                <a:srgbClr val="ff33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645520" y="3164040"/>
                <a:ext cx="238680" cy="210600"/>
              </a:xfrm>
              <a:custGeom>
                <a:avLst/>
                <a:gdLst/>
                <a:ahLst/>
                <a:rect l="l" t="t" r="r" b="b"/>
                <a:pathLst>
                  <a:path w="48" h="50">
                    <a:moveTo>
                      <a:pt x="32" y="50"/>
                    </a:moveTo>
                    <a:lnTo>
                      <a:pt x="0" y="13"/>
                    </a:lnTo>
                    <a:lnTo>
                      <a:pt x="28" y="0"/>
                    </a:lnTo>
                    <a:lnTo>
                      <a:pt x="48" y="22"/>
                    </a:lnTo>
                    <a:lnTo>
                      <a:pt x="32" y="50"/>
                    </a:lnTo>
                    <a:close/>
                  </a:path>
                </a:pathLst>
              </a:custGeom>
              <a:solidFill>
                <a:srgbClr val="ff33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967280" y="3728160"/>
                <a:ext cx="236160" cy="207000"/>
              </a:xfrm>
              <a:custGeom>
                <a:avLst/>
                <a:gdLst/>
                <a:ahLst/>
                <a:rect l="l" t="t" r="r" b="b"/>
                <a:pathLst>
                  <a:path w="48" h="50">
                    <a:moveTo>
                      <a:pt x="17" y="0"/>
                    </a:moveTo>
                    <a:lnTo>
                      <a:pt x="48" y="36"/>
                    </a:lnTo>
                    <a:lnTo>
                      <a:pt x="20" y="50"/>
                    </a:lnTo>
                    <a:lnTo>
                      <a:pt x="0" y="28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33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652000" y="3724920"/>
                <a:ext cx="232560" cy="210600"/>
              </a:xfrm>
              <a:custGeom>
                <a:avLst/>
                <a:gdLst/>
                <a:ahLst/>
                <a:rect l="l" t="t" r="r" b="b"/>
                <a:pathLst>
                  <a:path w="47" h="51">
                    <a:moveTo>
                      <a:pt x="31" y="0"/>
                    </a:moveTo>
                    <a:lnTo>
                      <a:pt x="0" y="37"/>
                    </a:lnTo>
                    <a:lnTo>
                      <a:pt x="28" y="51"/>
                    </a:lnTo>
                    <a:lnTo>
                      <a:pt x="47" y="29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33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310000" y="3924720"/>
                <a:ext cx="232560" cy="120600"/>
              </a:xfrm>
              <a:custGeom>
                <a:avLst/>
                <a:gdLst/>
                <a:ahLst/>
                <a:rect l="l" t="t" r="r" b="b"/>
                <a:pathLst>
                  <a:path w="47" h="29">
                    <a:moveTo>
                      <a:pt x="9" y="29"/>
                    </a:moveTo>
                    <a:lnTo>
                      <a:pt x="37" y="29"/>
                    </a:lnTo>
                    <a:lnTo>
                      <a:pt x="47" y="0"/>
                    </a:lnTo>
                    <a:lnTo>
                      <a:pt x="0" y="0"/>
                    </a:lnTo>
                    <a:lnTo>
                      <a:pt x="9" y="29"/>
                    </a:lnTo>
                    <a:close/>
                  </a:path>
                </a:pathLst>
              </a:custGeom>
              <a:solidFill>
                <a:srgbClr val="ff33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000760" y="3164040"/>
                <a:ext cx="838440" cy="760680"/>
              </a:xfrm>
              <a:prstGeom prst="ellipse">
                <a:avLst/>
              </a:prstGeom>
              <a:solidFill>
                <a:srgbClr val="ff33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263920" y="3014640"/>
                <a:ext cx="233280" cy="119520"/>
              </a:xfrm>
              <a:custGeom>
                <a:avLst/>
                <a:gdLst/>
                <a:ahLst/>
                <a:rect l="l" t="t" r="r" b="b"/>
                <a:pathLst>
                  <a:path w="47" h="29">
                    <a:moveTo>
                      <a:pt x="9" y="0"/>
                    </a:moveTo>
                    <a:lnTo>
                      <a:pt x="38" y="0"/>
                    </a:lnTo>
                    <a:lnTo>
                      <a:pt x="47" y="29"/>
                    </a:lnTo>
                    <a:lnTo>
                      <a:pt x="0" y="29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33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791320" y="3411000"/>
                <a:ext cx="141840" cy="211320"/>
              </a:xfrm>
              <a:custGeom>
                <a:avLst/>
                <a:gdLst/>
                <a:ahLst/>
                <a:rect l="l" t="t" r="r" b="b"/>
                <a:pathLst>
                  <a:path w="29" h="51">
                    <a:moveTo>
                      <a:pt x="29" y="10"/>
                    </a:moveTo>
                    <a:lnTo>
                      <a:pt x="29" y="41"/>
                    </a:lnTo>
                    <a:lnTo>
                      <a:pt x="0" y="51"/>
                    </a:lnTo>
                    <a:lnTo>
                      <a:pt x="0" y="0"/>
                    </a:lnTo>
                    <a:lnTo>
                      <a:pt x="29" y="10"/>
                    </a:lnTo>
                    <a:close/>
                  </a:path>
                </a:pathLst>
              </a:custGeom>
              <a:solidFill>
                <a:srgbClr val="ff33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4827960" y="3407760"/>
                <a:ext cx="139320" cy="214560"/>
              </a:xfrm>
              <a:custGeom>
                <a:avLst/>
                <a:gdLst/>
                <a:ahLst/>
                <a:rect l="l" t="t" r="r" b="b"/>
                <a:pathLst>
                  <a:path w="28" h="52">
                    <a:moveTo>
                      <a:pt x="0" y="10"/>
                    </a:moveTo>
                    <a:lnTo>
                      <a:pt x="0" y="42"/>
                    </a:lnTo>
                    <a:lnTo>
                      <a:pt x="28" y="52"/>
                    </a:lnTo>
                    <a:lnTo>
                      <a:pt x="28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33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4921920" y="3123360"/>
                <a:ext cx="233280" cy="207000"/>
              </a:xfrm>
              <a:custGeom>
                <a:avLst/>
                <a:gdLst/>
                <a:ahLst/>
                <a:rect l="l" t="t" r="r" b="b"/>
                <a:pathLst>
                  <a:path w="47" h="50">
                    <a:moveTo>
                      <a:pt x="16" y="50"/>
                    </a:moveTo>
                    <a:lnTo>
                      <a:pt x="47" y="13"/>
                    </a:lnTo>
                    <a:lnTo>
                      <a:pt x="19" y="0"/>
                    </a:lnTo>
                    <a:lnTo>
                      <a:pt x="0" y="22"/>
                    </a:lnTo>
                    <a:lnTo>
                      <a:pt x="16" y="50"/>
                    </a:lnTo>
                    <a:close/>
                  </a:path>
                </a:pathLst>
              </a:custGeom>
              <a:solidFill>
                <a:srgbClr val="ff33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600520" y="3123360"/>
                <a:ext cx="232560" cy="211320"/>
              </a:xfrm>
              <a:custGeom>
                <a:avLst/>
                <a:gdLst/>
                <a:ahLst/>
                <a:rect l="l" t="t" r="r" b="b"/>
                <a:pathLst>
                  <a:path w="47" h="51">
                    <a:moveTo>
                      <a:pt x="31" y="51"/>
                    </a:moveTo>
                    <a:lnTo>
                      <a:pt x="0" y="14"/>
                    </a:lnTo>
                    <a:lnTo>
                      <a:pt x="28" y="0"/>
                    </a:lnTo>
                    <a:lnTo>
                      <a:pt x="47" y="23"/>
                    </a:lnTo>
                    <a:lnTo>
                      <a:pt x="31" y="51"/>
                    </a:lnTo>
                    <a:close/>
                  </a:path>
                </a:pathLst>
              </a:custGeom>
              <a:solidFill>
                <a:srgbClr val="ff33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921920" y="3691800"/>
                <a:ext cx="239400" cy="207000"/>
              </a:xfrm>
              <a:custGeom>
                <a:avLst/>
                <a:gdLst/>
                <a:ahLst/>
                <a:rect l="l" t="t" r="r" b="b"/>
                <a:pathLst>
                  <a:path w="48" h="50">
                    <a:moveTo>
                      <a:pt x="17" y="0"/>
                    </a:moveTo>
                    <a:lnTo>
                      <a:pt x="48" y="37"/>
                    </a:lnTo>
                    <a:lnTo>
                      <a:pt x="19" y="50"/>
                    </a:lnTo>
                    <a:lnTo>
                      <a:pt x="0" y="28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33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5606640" y="3684240"/>
                <a:ext cx="232560" cy="214560"/>
              </a:xfrm>
              <a:custGeom>
                <a:avLst/>
                <a:gdLst/>
                <a:ahLst/>
                <a:rect l="l" t="t" r="r" b="b"/>
                <a:pathLst>
                  <a:path w="47" h="51">
                    <a:moveTo>
                      <a:pt x="31" y="0"/>
                    </a:moveTo>
                    <a:lnTo>
                      <a:pt x="0" y="37"/>
                    </a:lnTo>
                    <a:lnTo>
                      <a:pt x="28" y="51"/>
                    </a:lnTo>
                    <a:lnTo>
                      <a:pt x="47" y="28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33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258520" y="3881160"/>
                <a:ext cx="232560" cy="127800"/>
              </a:xfrm>
              <a:custGeom>
                <a:avLst/>
                <a:gdLst/>
                <a:ahLst/>
                <a:rect l="l" t="t" r="r" b="b"/>
                <a:pathLst>
                  <a:path w="47" h="30">
                    <a:moveTo>
                      <a:pt x="9" y="30"/>
                    </a:moveTo>
                    <a:lnTo>
                      <a:pt x="37" y="30"/>
                    </a:lnTo>
                    <a:lnTo>
                      <a:pt x="47" y="0"/>
                    </a:lnTo>
                    <a:lnTo>
                      <a:pt x="0" y="0"/>
                    </a:lnTo>
                    <a:lnTo>
                      <a:pt x="9" y="30"/>
                    </a:lnTo>
                    <a:close/>
                  </a:path>
                </a:pathLst>
              </a:custGeom>
              <a:solidFill>
                <a:srgbClr val="ff33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952160" y="3130920"/>
                <a:ext cx="841680" cy="761400"/>
              </a:xfrm>
              <a:prstGeom prst="ellipse">
                <a:avLst/>
              </a:prstGeom>
              <a:solidFill>
                <a:srgbClr val="ff33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270040" y="3411000"/>
                <a:ext cx="311760" cy="284040"/>
              </a:xfrm>
              <a:prstGeom prst="ellipse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239800" y="3382200"/>
                <a:ext cx="311760" cy="284040"/>
              </a:xfrm>
              <a:prstGeom prst="ellipse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239800" y="3382200"/>
                <a:ext cx="326880" cy="294840"/>
              </a:xfrm>
              <a:prstGeom prst="ellipse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218560" y="3360600"/>
                <a:ext cx="302760" cy="276480"/>
              </a:xfrm>
              <a:prstGeom prst="ellipse">
                <a:avLst/>
              </a:prstGeom>
              <a:solidFill>
                <a:srgbClr val="ff33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>
              <a:off x="4780440" y="4116960"/>
              <a:ext cx="1233720" cy="7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5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Test-Case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Gener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773760" y="2382840"/>
            <a:ext cx="1795680" cy="1833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455760" y="3129120"/>
            <a:ext cx="1830240" cy="11491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114720" y="2968560"/>
            <a:ext cx="1162080" cy="118260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og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de-DE" sz="1200" spc="-1" strike="noStrike">
                <a:solidFill>
                  <a:srgbClr val="333399"/>
                </a:solidFill>
                <a:latin typeface="Arial"/>
              </a:rPr>
              <a:t>100010010100</a:t>
            </a:r>
            <a:br>
              <a:rPr sz="1200"/>
            </a:br>
            <a:r>
              <a:rPr b="0" lang="de-DE" sz="1200" spc="-1" strike="noStrike">
                <a:solidFill>
                  <a:srgbClr val="333399"/>
                </a:solidFill>
                <a:latin typeface="Arial"/>
              </a:rPr>
              <a:t>0110011101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360" y="4049640"/>
            <a:ext cx="2374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Field-Te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88000" y="4046400"/>
            <a:ext cx="2374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Lab-Te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4351320" y="3525840"/>
            <a:ext cx="431640" cy="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40520" y="3511440"/>
            <a:ext cx="431640" cy="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10800000">
            <a:off x="181080" y="5145840"/>
            <a:ext cx="8191440" cy="1149480"/>
          </a:xfrm>
          <a:custGeom>
            <a:avLst/>
            <a:gdLst>
              <a:gd name="textAreaLeft" fmla="*/ 1433520 w 8191440"/>
              <a:gd name="textAreaRight" fmla="*/ 5938920 w 8191440"/>
              <a:gd name="textAreaTop" fmla="*/ 153720 h 1149480"/>
              <a:gd name="textAreaBottom" fmla="*/ 995760 h 114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51120" y="4944960"/>
            <a:ext cx="2374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evelopment &amp; Bug-Fix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12760" y="1714680"/>
            <a:ext cx="8691480" cy="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Test-Case Generator using logged Field-Test Traces, R.Kießl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B348-962B-4307-B0DF-9BFE73F0D06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22/04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021440" y="5060880"/>
            <a:ext cx="6494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371600" y="5102280"/>
            <a:ext cx="1486080" cy="12459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Field-Test Logging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… PCO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7240" y="1967040"/>
            <a:ext cx="7785360" cy="15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The tool PCO is used to supervise field-test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nd record all communications inside the protocol stack (PS) of, e.g., a cellular phon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 flipH="1" rot="1013400">
            <a:off x="307800" y="3471840"/>
            <a:ext cx="1722600" cy="18129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2624040" y="3538440"/>
            <a:ext cx="4418280" cy="27291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12760" y="1714680"/>
            <a:ext cx="8691480" cy="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357800"/>
            <a:ext cx="1162080" cy="138420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og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de-DE" sz="1200" spc="-1" strike="noStrike">
                <a:solidFill>
                  <a:srgbClr val="333399"/>
                </a:solidFill>
                <a:latin typeface="Arial"/>
              </a:rPr>
              <a:t>100010010100</a:t>
            </a:r>
            <a:br>
              <a:rPr sz="1200"/>
            </a:br>
            <a:r>
              <a:rPr b="0" lang="de-DE" sz="1200" spc="-1" strike="noStrike">
                <a:solidFill>
                  <a:srgbClr val="333399"/>
                </a:solidFill>
                <a:latin typeface="Arial"/>
              </a:rPr>
              <a:t>0110011101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Test-Case Generator using logged Field-Test Traces, R.Kieß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2616-54F7-4A76-BEAD-7FC66BB753B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22/04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 rot="20089800">
            <a:off x="3649680" y="5084640"/>
            <a:ext cx="2273400" cy="99396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Field-Test Logging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… GPF-FRAME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7240" y="1967040"/>
            <a:ext cx="7785360" cy="15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 generic framework is used on target and tool side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upporting duplication of the communication flow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 flipH="1" rot="1014000">
            <a:off x="984960" y="3681000"/>
            <a:ext cx="1398600" cy="14716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6581880" y="3967200"/>
            <a:ext cx="1906560" cy="11779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12760" y="1714680"/>
            <a:ext cx="8691480" cy="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37120" y="5127480"/>
            <a:ext cx="2571840" cy="80496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PF-FR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85960" y="5110200"/>
            <a:ext cx="2571480" cy="80496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PF-FR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708360" y="4443480"/>
            <a:ext cx="201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upliciation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ia the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est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Test-Case Generator using logged Field-Test Traces, R.Kieß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2BEA-5348-444A-B069-C99ADDEA944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22/04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627280" y="66672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PS Structures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… primitive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52080" y="1868400"/>
            <a:ext cx="8599320" cy="22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 Narrow"/>
              </a:rPr>
              <a:t>A protocol stack consists of several entitie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Narrow"/>
              </a:rPr>
              <a:t>... communicating via primitives exchanged between them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 Narrow"/>
              </a:rPr>
              <a:t>Primitives contain internal data and air-message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"/>
          <p:cNvSpPr/>
          <p:nvPr/>
        </p:nvSpPr>
        <p:spPr>
          <a:xfrm>
            <a:off x="212760" y="1714680"/>
            <a:ext cx="8691480" cy="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986120" y="4084560"/>
          <a:ext cx="3736800" cy="2016000"/>
        </p:xfrm>
        <a:graphic>
          <a:graphicData uri="http://schemas.openxmlformats.org/drawingml/2006/table">
            <a:tbl>
              <a:tblPr/>
              <a:tblGrid>
                <a:gridCol w="3736800"/>
              </a:tblGrid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_ele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ong_ele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uct_ele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ir_message_SDU (encode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1981080" y="3684600"/>
            <a:ext cx="15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mi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6370560" y="4116240"/>
          <a:ext cx="2351160" cy="1505160"/>
        </p:xfrm>
        <a:graphic>
          <a:graphicData uri="http://schemas.openxmlformats.org/drawingml/2006/table">
            <a:tbl>
              <a:tblPr/>
              <a:tblGrid>
                <a:gridCol w="2351160"/>
              </a:tblGrid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_ele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ong_ele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uct_ele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"/>
          <p:cNvSpPr/>
          <p:nvPr/>
        </p:nvSpPr>
        <p:spPr>
          <a:xfrm>
            <a:off x="6313320" y="372744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ir-message (decod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718240" y="4125960"/>
            <a:ext cx="633240" cy="1466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5716440" y="5622480"/>
            <a:ext cx="644760" cy="482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31920" y="3795840"/>
            <a:ext cx="1174680" cy="461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ntity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33360" y="5726160"/>
            <a:ext cx="1174680" cy="512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ntity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74800" y="4270320"/>
            <a:ext cx="9360" cy="142560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905040" y="4070520"/>
            <a:ext cx="1074600" cy="89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93880" y="5084640"/>
            <a:ext cx="1065240" cy="10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Test-Case Generator using logged Field-Test Traces, R.Kieß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3146-BFD8-4E7D-B2D5-04CE82E9941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22/04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PS Structures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… database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94800" y="1934640"/>
            <a:ext cx="8007480" cy="17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 Narrow"/>
              </a:rPr>
              <a:t>The altering structure definitions are collected in a database  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Narrow"/>
              </a:rPr>
              <a:t>... to keep test tools independent from the actual P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" name=""/>
          <p:cNvSpPr/>
          <p:nvPr/>
        </p:nvSpPr>
        <p:spPr>
          <a:xfrm>
            <a:off x="212760" y="1714680"/>
            <a:ext cx="8691480" cy="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10440" y="3651120"/>
            <a:ext cx="1527120" cy="219240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C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Win32-D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4120" y="3772080"/>
            <a:ext cx="1952640" cy="21571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pecifications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f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imitive and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ir-message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ETSI confor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3360" y="3890880"/>
            <a:ext cx="1427040" cy="16700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a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 head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638080" y="4203720"/>
            <a:ext cx="1155960" cy="1666080"/>
            <a:chOff x="2638080" y="4203720"/>
            <a:chExt cx="1155960" cy="1666080"/>
          </a:xfrm>
        </p:grpSpPr>
        <p:grpSp>
          <p:nvGrpSpPr>
            <p:cNvPr id="133" name=""/>
            <p:cNvGrpSpPr/>
            <p:nvPr/>
          </p:nvGrpSpPr>
          <p:grpSpPr>
            <a:xfrm>
              <a:off x="2743200" y="4203720"/>
              <a:ext cx="954720" cy="883800"/>
              <a:chOff x="2743200" y="4203720"/>
              <a:chExt cx="954720" cy="883800"/>
            </a:xfrm>
          </p:grpSpPr>
          <p:sp>
            <p:nvSpPr>
              <p:cNvPr id="134" name=""/>
              <p:cNvSpPr/>
              <p:nvPr/>
            </p:nvSpPr>
            <p:spPr>
              <a:xfrm>
                <a:off x="3145320" y="4231080"/>
                <a:ext cx="198000" cy="112320"/>
              </a:xfrm>
              <a:custGeom>
                <a:avLst/>
                <a:gdLst/>
                <a:ahLst/>
                <a:rect l="l" t="t" r="r" b="b"/>
                <a:pathLst>
                  <a:path w="48" h="31">
                    <a:moveTo>
                      <a:pt x="9" y="0"/>
                    </a:moveTo>
                    <a:lnTo>
                      <a:pt x="38" y="0"/>
                    </a:lnTo>
                    <a:lnTo>
                      <a:pt x="48" y="31"/>
                    </a:lnTo>
                    <a:lnTo>
                      <a:pt x="0" y="3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582360" y="4575600"/>
                <a:ext cx="115560" cy="183960"/>
              </a:xfrm>
              <a:custGeom>
                <a:avLst/>
                <a:gdLst/>
                <a:ahLst/>
                <a:rect l="l" t="t" r="r" b="b"/>
                <a:pathLst>
                  <a:path w="28" h="51">
                    <a:moveTo>
                      <a:pt x="28" y="10"/>
                    </a:moveTo>
                    <a:lnTo>
                      <a:pt x="28" y="41"/>
                    </a:lnTo>
                    <a:lnTo>
                      <a:pt x="0" y="51"/>
                    </a:lnTo>
                    <a:lnTo>
                      <a:pt x="0" y="0"/>
                    </a:lnTo>
                    <a:lnTo>
                      <a:pt x="28" y="10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783520" y="4575600"/>
                <a:ext cx="112680" cy="177480"/>
              </a:xfrm>
              <a:custGeom>
                <a:avLst/>
                <a:gdLst/>
                <a:ahLst/>
                <a:rect l="l" t="t" r="r" b="b"/>
                <a:pathLst>
                  <a:path w="27" h="50">
                    <a:moveTo>
                      <a:pt x="0" y="10"/>
                    </a:moveTo>
                    <a:lnTo>
                      <a:pt x="0" y="40"/>
                    </a:lnTo>
                    <a:lnTo>
                      <a:pt x="27" y="50"/>
                    </a:lnTo>
                    <a:lnTo>
                      <a:pt x="27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858760" y="4328280"/>
                <a:ext cx="195840" cy="178200"/>
              </a:xfrm>
              <a:custGeom>
                <a:avLst/>
                <a:gdLst/>
                <a:ahLst/>
                <a:rect l="l" t="t" r="r" b="b"/>
                <a:pathLst>
                  <a:path w="48" h="50">
                    <a:moveTo>
                      <a:pt x="16" y="50"/>
                    </a:moveTo>
                    <a:lnTo>
                      <a:pt x="48" y="13"/>
                    </a:lnTo>
                    <a:lnTo>
                      <a:pt x="20" y="0"/>
                    </a:lnTo>
                    <a:lnTo>
                      <a:pt x="0" y="22"/>
                    </a:lnTo>
                    <a:lnTo>
                      <a:pt x="16" y="50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421440" y="4331880"/>
                <a:ext cx="198000" cy="180360"/>
              </a:xfrm>
              <a:custGeom>
                <a:avLst/>
                <a:gdLst/>
                <a:ahLst/>
                <a:rect l="l" t="t" r="r" b="b"/>
                <a:pathLst>
                  <a:path w="48" h="50">
                    <a:moveTo>
                      <a:pt x="32" y="50"/>
                    </a:moveTo>
                    <a:lnTo>
                      <a:pt x="0" y="13"/>
                    </a:lnTo>
                    <a:lnTo>
                      <a:pt x="28" y="0"/>
                    </a:lnTo>
                    <a:lnTo>
                      <a:pt x="48" y="22"/>
                    </a:lnTo>
                    <a:lnTo>
                      <a:pt x="32" y="50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858760" y="4815720"/>
                <a:ext cx="195840" cy="177480"/>
              </a:xfrm>
              <a:custGeom>
                <a:avLst/>
                <a:gdLst/>
                <a:ahLst/>
                <a:rect l="l" t="t" r="r" b="b"/>
                <a:pathLst>
                  <a:path w="48" h="50">
                    <a:moveTo>
                      <a:pt x="17" y="0"/>
                    </a:moveTo>
                    <a:lnTo>
                      <a:pt x="48" y="36"/>
                    </a:lnTo>
                    <a:lnTo>
                      <a:pt x="20" y="50"/>
                    </a:lnTo>
                    <a:lnTo>
                      <a:pt x="0" y="28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426840" y="4812840"/>
                <a:ext cx="192960" cy="180360"/>
              </a:xfrm>
              <a:custGeom>
                <a:avLst/>
                <a:gdLst/>
                <a:ahLst/>
                <a:rect l="l" t="t" r="r" b="b"/>
                <a:pathLst>
                  <a:path w="47" h="51">
                    <a:moveTo>
                      <a:pt x="31" y="0"/>
                    </a:moveTo>
                    <a:lnTo>
                      <a:pt x="0" y="37"/>
                    </a:lnTo>
                    <a:lnTo>
                      <a:pt x="28" y="51"/>
                    </a:lnTo>
                    <a:lnTo>
                      <a:pt x="47" y="29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142800" y="4984200"/>
                <a:ext cx="192960" cy="103320"/>
              </a:xfrm>
              <a:custGeom>
                <a:avLst/>
                <a:gdLst/>
                <a:ahLst/>
                <a:rect l="l" t="t" r="r" b="b"/>
                <a:pathLst>
                  <a:path w="47" h="29">
                    <a:moveTo>
                      <a:pt x="9" y="29"/>
                    </a:moveTo>
                    <a:lnTo>
                      <a:pt x="37" y="29"/>
                    </a:lnTo>
                    <a:lnTo>
                      <a:pt x="47" y="0"/>
                    </a:lnTo>
                    <a:lnTo>
                      <a:pt x="0" y="0"/>
                    </a:lnTo>
                    <a:lnTo>
                      <a:pt x="9" y="29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886480" y="4331880"/>
                <a:ext cx="695520" cy="652320"/>
              </a:xfrm>
              <a:prstGeom prst="ellipse">
                <a:avLst/>
              </a:prstGeom>
              <a:solidFill>
                <a:srgbClr val="80808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104640" y="4203720"/>
                <a:ext cx="193680" cy="102600"/>
              </a:xfrm>
              <a:custGeom>
                <a:avLst/>
                <a:gdLst/>
                <a:ahLst/>
                <a:rect l="l" t="t" r="r" b="b"/>
                <a:pathLst>
                  <a:path w="47" h="29">
                    <a:moveTo>
                      <a:pt x="9" y="0"/>
                    </a:moveTo>
                    <a:lnTo>
                      <a:pt x="38" y="0"/>
                    </a:lnTo>
                    <a:lnTo>
                      <a:pt x="47" y="29"/>
                    </a:lnTo>
                    <a:lnTo>
                      <a:pt x="0" y="29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542400" y="4543560"/>
                <a:ext cx="117720" cy="181080"/>
              </a:xfrm>
              <a:custGeom>
                <a:avLst/>
                <a:gdLst/>
                <a:ahLst/>
                <a:rect l="l" t="t" r="r" b="b"/>
                <a:pathLst>
                  <a:path w="29" h="51">
                    <a:moveTo>
                      <a:pt x="29" y="10"/>
                    </a:moveTo>
                    <a:lnTo>
                      <a:pt x="29" y="41"/>
                    </a:lnTo>
                    <a:lnTo>
                      <a:pt x="0" y="51"/>
                    </a:lnTo>
                    <a:lnTo>
                      <a:pt x="0" y="0"/>
                    </a:lnTo>
                    <a:lnTo>
                      <a:pt x="29" y="10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743200" y="4540680"/>
                <a:ext cx="115560" cy="183960"/>
              </a:xfrm>
              <a:custGeom>
                <a:avLst/>
                <a:gdLst/>
                <a:ahLst/>
                <a:rect l="l" t="t" r="r" b="b"/>
                <a:pathLst>
                  <a:path w="28" h="52">
                    <a:moveTo>
                      <a:pt x="0" y="10"/>
                    </a:moveTo>
                    <a:lnTo>
                      <a:pt x="0" y="42"/>
                    </a:lnTo>
                    <a:lnTo>
                      <a:pt x="28" y="52"/>
                    </a:lnTo>
                    <a:lnTo>
                      <a:pt x="28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820960" y="4296960"/>
                <a:ext cx="193680" cy="177480"/>
              </a:xfrm>
              <a:custGeom>
                <a:avLst/>
                <a:gdLst/>
                <a:ahLst/>
                <a:rect l="l" t="t" r="r" b="b"/>
                <a:pathLst>
                  <a:path w="47" h="50">
                    <a:moveTo>
                      <a:pt x="16" y="50"/>
                    </a:moveTo>
                    <a:lnTo>
                      <a:pt x="47" y="13"/>
                    </a:lnTo>
                    <a:lnTo>
                      <a:pt x="19" y="0"/>
                    </a:lnTo>
                    <a:lnTo>
                      <a:pt x="0" y="22"/>
                    </a:lnTo>
                    <a:lnTo>
                      <a:pt x="16" y="50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384000" y="4296960"/>
                <a:ext cx="192960" cy="181080"/>
              </a:xfrm>
              <a:custGeom>
                <a:avLst/>
                <a:gdLst/>
                <a:ahLst/>
                <a:rect l="l" t="t" r="r" b="b"/>
                <a:pathLst>
                  <a:path w="47" h="51">
                    <a:moveTo>
                      <a:pt x="31" y="51"/>
                    </a:moveTo>
                    <a:lnTo>
                      <a:pt x="0" y="14"/>
                    </a:lnTo>
                    <a:lnTo>
                      <a:pt x="28" y="0"/>
                    </a:lnTo>
                    <a:lnTo>
                      <a:pt x="47" y="23"/>
                    </a:lnTo>
                    <a:lnTo>
                      <a:pt x="31" y="51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820960" y="4784400"/>
                <a:ext cx="198720" cy="177480"/>
              </a:xfrm>
              <a:custGeom>
                <a:avLst/>
                <a:gdLst/>
                <a:ahLst/>
                <a:rect l="l" t="t" r="r" b="b"/>
                <a:pathLst>
                  <a:path w="48" h="50">
                    <a:moveTo>
                      <a:pt x="17" y="0"/>
                    </a:moveTo>
                    <a:lnTo>
                      <a:pt x="48" y="37"/>
                    </a:lnTo>
                    <a:lnTo>
                      <a:pt x="19" y="50"/>
                    </a:lnTo>
                    <a:lnTo>
                      <a:pt x="0" y="28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389040" y="4778280"/>
                <a:ext cx="192960" cy="183960"/>
              </a:xfrm>
              <a:custGeom>
                <a:avLst/>
                <a:gdLst/>
                <a:ahLst/>
                <a:rect l="l" t="t" r="r" b="b"/>
                <a:pathLst>
                  <a:path w="47" h="51">
                    <a:moveTo>
                      <a:pt x="31" y="0"/>
                    </a:moveTo>
                    <a:lnTo>
                      <a:pt x="0" y="37"/>
                    </a:lnTo>
                    <a:lnTo>
                      <a:pt x="28" y="51"/>
                    </a:lnTo>
                    <a:lnTo>
                      <a:pt x="47" y="28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100320" y="4946760"/>
                <a:ext cx="192960" cy="109800"/>
              </a:xfrm>
              <a:custGeom>
                <a:avLst/>
                <a:gdLst/>
                <a:ahLst/>
                <a:rect l="l" t="t" r="r" b="b"/>
                <a:pathLst>
                  <a:path w="47" h="30">
                    <a:moveTo>
                      <a:pt x="9" y="30"/>
                    </a:moveTo>
                    <a:lnTo>
                      <a:pt x="37" y="30"/>
                    </a:lnTo>
                    <a:lnTo>
                      <a:pt x="47" y="0"/>
                    </a:lnTo>
                    <a:lnTo>
                      <a:pt x="0" y="0"/>
                    </a:lnTo>
                    <a:lnTo>
                      <a:pt x="9" y="30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846160" y="4303440"/>
                <a:ext cx="698400" cy="653040"/>
              </a:xfrm>
              <a:prstGeom prst="ellipse">
                <a:avLst/>
              </a:prstGeom>
              <a:solidFill>
                <a:srgbClr val="80808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110040" y="4543560"/>
                <a:ext cx="258480" cy="24336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084840" y="4518720"/>
                <a:ext cx="258480" cy="24336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084840" y="4518720"/>
                <a:ext cx="271080" cy="25272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067200" y="4500360"/>
                <a:ext cx="250920" cy="237240"/>
              </a:xfrm>
              <a:prstGeom prst="ellipse">
                <a:avLst/>
              </a:prstGeom>
              <a:solidFill>
                <a:srgbClr val="80808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6" name=""/>
            <p:cNvSpPr/>
            <p:nvPr/>
          </p:nvSpPr>
          <p:spPr>
            <a:xfrm>
              <a:off x="2638080" y="5151240"/>
              <a:ext cx="1155960" cy="7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5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tab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gener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2328840" y="4659480"/>
            <a:ext cx="382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740040" y="4660920"/>
            <a:ext cx="373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564160" y="4668840"/>
            <a:ext cx="285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5785560" y="4257720"/>
            <a:ext cx="1105920" cy="1941120"/>
            <a:chOff x="5785560" y="4257720"/>
            <a:chExt cx="1105920" cy="1941120"/>
          </a:xfrm>
        </p:grpSpPr>
        <p:grpSp>
          <p:nvGrpSpPr>
            <p:cNvPr id="161" name=""/>
            <p:cNvGrpSpPr/>
            <p:nvPr/>
          </p:nvGrpSpPr>
          <p:grpSpPr>
            <a:xfrm>
              <a:off x="5866560" y="4257720"/>
              <a:ext cx="951840" cy="882720"/>
              <a:chOff x="5866560" y="4257720"/>
              <a:chExt cx="951840" cy="882720"/>
            </a:xfrm>
          </p:grpSpPr>
          <p:sp>
            <p:nvSpPr>
              <p:cNvPr id="162" name=""/>
              <p:cNvSpPr/>
              <p:nvPr/>
            </p:nvSpPr>
            <p:spPr>
              <a:xfrm>
                <a:off x="6267240" y="4285080"/>
                <a:ext cx="197640" cy="112320"/>
              </a:xfrm>
              <a:custGeom>
                <a:avLst/>
                <a:gdLst/>
                <a:ahLst/>
                <a:rect l="l" t="t" r="r" b="b"/>
                <a:pathLst>
                  <a:path w="48" h="31">
                    <a:moveTo>
                      <a:pt x="9" y="0"/>
                    </a:moveTo>
                    <a:lnTo>
                      <a:pt x="38" y="0"/>
                    </a:lnTo>
                    <a:lnTo>
                      <a:pt x="48" y="31"/>
                    </a:lnTo>
                    <a:lnTo>
                      <a:pt x="0" y="3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703200" y="4628880"/>
                <a:ext cx="115200" cy="183960"/>
              </a:xfrm>
              <a:custGeom>
                <a:avLst/>
                <a:gdLst/>
                <a:ahLst/>
                <a:rect l="l" t="t" r="r" b="b"/>
                <a:pathLst>
                  <a:path w="28" h="51">
                    <a:moveTo>
                      <a:pt x="28" y="10"/>
                    </a:moveTo>
                    <a:lnTo>
                      <a:pt x="28" y="41"/>
                    </a:lnTo>
                    <a:lnTo>
                      <a:pt x="0" y="51"/>
                    </a:lnTo>
                    <a:lnTo>
                      <a:pt x="0" y="0"/>
                    </a:lnTo>
                    <a:lnTo>
                      <a:pt x="28" y="10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906880" y="4628880"/>
                <a:ext cx="112320" cy="177480"/>
              </a:xfrm>
              <a:custGeom>
                <a:avLst/>
                <a:gdLst/>
                <a:ahLst/>
                <a:rect l="l" t="t" r="r" b="b"/>
                <a:pathLst>
                  <a:path w="27" h="50">
                    <a:moveTo>
                      <a:pt x="0" y="10"/>
                    </a:moveTo>
                    <a:lnTo>
                      <a:pt x="0" y="40"/>
                    </a:lnTo>
                    <a:lnTo>
                      <a:pt x="27" y="50"/>
                    </a:lnTo>
                    <a:lnTo>
                      <a:pt x="27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981760" y="4381920"/>
                <a:ext cx="195120" cy="178200"/>
              </a:xfrm>
              <a:custGeom>
                <a:avLst/>
                <a:gdLst/>
                <a:ahLst/>
                <a:rect l="l" t="t" r="r" b="b"/>
                <a:pathLst>
                  <a:path w="48" h="50">
                    <a:moveTo>
                      <a:pt x="16" y="50"/>
                    </a:moveTo>
                    <a:lnTo>
                      <a:pt x="48" y="13"/>
                    </a:lnTo>
                    <a:lnTo>
                      <a:pt x="20" y="0"/>
                    </a:lnTo>
                    <a:lnTo>
                      <a:pt x="0" y="22"/>
                    </a:lnTo>
                    <a:lnTo>
                      <a:pt x="16" y="50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543000" y="4385520"/>
                <a:ext cx="197640" cy="180360"/>
              </a:xfrm>
              <a:custGeom>
                <a:avLst/>
                <a:gdLst/>
                <a:ahLst/>
                <a:rect l="l" t="t" r="r" b="b"/>
                <a:pathLst>
                  <a:path w="48" h="50">
                    <a:moveTo>
                      <a:pt x="32" y="50"/>
                    </a:moveTo>
                    <a:lnTo>
                      <a:pt x="0" y="13"/>
                    </a:lnTo>
                    <a:lnTo>
                      <a:pt x="28" y="0"/>
                    </a:lnTo>
                    <a:lnTo>
                      <a:pt x="48" y="22"/>
                    </a:lnTo>
                    <a:lnTo>
                      <a:pt x="32" y="50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981760" y="4869000"/>
                <a:ext cx="195120" cy="177480"/>
              </a:xfrm>
              <a:custGeom>
                <a:avLst/>
                <a:gdLst/>
                <a:ahLst/>
                <a:rect l="l" t="t" r="r" b="b"/>
                <a:pathLst>
                  <a:path w="48" h="50">
                    <a:moveTo>
                      <a:pt x="17" y="0"/>
                    </a:moveTo>
                    <a:lnTo>
                      <a:pt x="48" y="36"/>
                    </a:lnTo>
                    <a:lnTo>
                      <a:pt x="20" y="50"/>
                    </a:lnTo>
                    <a:lnTo>
                      <a:pt x="0" y="28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548040" y="4866120"/>
                <a:ext cx="192240" cy="180360"/>
              </a:xfrm>
              <a:custGeom>
                <a:avLst/>
                <a:gdLst/>
                <a:ahLst/>
                <a:rect l="l" t="t" r="r" b="b"/>
                <a:pathLst>
                  <a:path w="47" h="51">
                    <a:moveTo>
                      <a:pt x="31" y="0"/>
                    </a:moveTo>
                    <a:lnTo>
                      <a:pt x="0" y="37"/>
                    </a:lnTo>
                    <a:lnTo>
                      <a:pt x="28" y="51"/>
                    </a:lnTo>
                    <a:lnTo>
                      <a:pt x="47" y="29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265080" y="5037480"/>
                <a:ext cx="192240" cy="102960"/>
              </a:xfrm>
              <a:custGeom>
                <a:avLst/>
                <a:gdLst/>
                <a:ahLst/>
                <a:rect l="l" t="t" r="r" b="b"/>
                <a:pathLst>
                  <a:path w="47" h="29">
                    <a:moveTo>
                      <a:pt x="9" y="29"/>
                    </a:moveTo>
                    <a:lnTo>
                      <a:pt x="37" y="29"/>
                    </a:lnTo>
                    <a:lnTo>
                      <a:pt x="47" y="0"/>
                    </a:lnTo>
                    <a:lnTo>
                      <a:pt x="0" y="0"/>
                    </a:lnTo>
                    <a:lnTo>
                      <a:pt x="9" y="29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009480" y="4385520"/>
                <a:ext cx="693360" cy="651600"/>
              </a:xfrm>
              <a:prstGeom prst="ellipse">
                <a:avLst/>
              </a:prstGeom>
              <a:solidFill>
                <a:srgbClr val="80808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226920" y="4257720"/>
                <a:ext cx="192960" cy="102600"/>
              </a:xfrm>
              <a:custGeom>
                <a:avLst/>
                <a:gdLst/>
                <a:ahLst/>
                <a:rect l="l" t="t" r="r" b="b"/>
                <a:pathLst>
                  <a:path w="47" h="29">
                    <a:moveTo>
                      <a:pt x="9" y="0"/>
                    </a:moveTo>
                    <a:lnTo>
                      <a:pt x="38" y="0"/>
                    </a:lnTo>
                    <a:lnTo>
                      <a:pt x="47" y="29"/>
                    </a:lnTo>
                    <a:lnTo>
                      <a:pt x="0" y="29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663240" y="4597200"/>
                <a:ext cx="117360" cy="181080"/>
              </a:xfrm>
              <a:custGeom>
                <a:avLst/>
                <a:gdLst/>
                <a:ahLst/>
                <a:rect l="l" t="t" r="r" b="b"/>
                <a:pathLst>
                  <a:path w="29" h="51">
                    <a:moveTo>
                      <a:pt x="29" y="10"/>
                    </a:moveTo>
                    <a:lnTo>
                      <a:pt x="29" y="41"/>
                    </a:lnTo>
                    <a:lnTo>
                      <a:pt x="0" y="51"/>
                    </a:lnTo>
                    <a:lnTo>
                      <a:pt x="0" y="0"/>
                    </a:lnTo>
                    <a:lnTo>
                      <a:pt x="29" y="10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866560" y="4594320"/>
                <a:ext cx="115200" cy="183960"/>
              </a:xfrm>
              <a:custGeom>
                <a:avLst/>
                <a:gdLst/>
                <a:ahLst/>
                <a:rect l="l" t="t" r="r" b="b"/>
                <a:pathLst>
                  <a:path w="28" h="52">
                    <a:moveTo>
                      <a:pt x="0" y="10"/>
                    </a:moveTo>
                    <a:lnTo>
                      <a:pt x="0" y="42"/>
                    </a:lnTo>
                    <a:lnTo>
                      <a:pt x="28" y="52"/>
                    </a:lnTo>
                    <a:lnTo>
                      <a:pt x="28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944320" y="4350960"/>
                <a:ext cx="192960" cy="177480"/>
              </a:xfrm>
              <a:custGeom>
                <a:avLst/>
                <a:gdLst/>
                <a:ahLst/>
                <a:rect l="l" t="t" r="r" b="b"/>
                <a:pathLst>
                  <a:path w="47" h="50">
                    <a:moveTo>
                      <a:pt x="16" y="50"/>
                    </a:moveTo>
                    <a:lnTo>
                      <a:pt x="47" y="13"/>
                    </a:lnTo>
                    <a:lnTo>
                      <a:pt x="19" y="0"/>
                    </a:lnTo>
                    <a:lnTo>
                      <a:pt x="0" y="22"/>
                    </a:lnTo>
                    <a:lnTo>
                      <a:pt x="16" y="50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505560" y="4350960"/>
                <a:ext cx="192240" cy="181080"/>
              </a:xfrm>
              <a:custGeom>
                <a:avLst/>
                <a:gdLst/>
                <a:ahLst/>
                <a:rect l="l" t="t" r="r" b="b"/>
                <a:pathLst>
                  <a:path w="47" h="51">
                    <a:moveTo>
                      <a:pt x="31" y="51"/>
                    </a:moveTo>
                    <a:lnTo>
                      <a:pt x="0" y="14"/>
                    </a:lnTo>
                    <a:lnTo>
                      <a:pt x="28" y="0"/>
                    </a:lnTo>
                    <a:lnTo>
                      <a:pt x="47" y="23"/>
                    </a:lnTo>
                    <a:lnTo>
                      <a:pt x="31" y="51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944320" y="4837680"/>
                <a:ext cx="198000" cy="177480"/>
              </a:xfrm>
              <a:custGeom>
                <a:avLst/>
                <a:gdLst/>
                <a:ahLst/>
                <a:rect l="l" t="t" r="r" b="b"/>
                <a:pathLst>
                  <a:path w="48" h="50">
                    <a:moveTo>
                      <a:pt x="17" y="0"/>
                    </a:moveTo>
                    <a:lnTo>
                      <a:pt x="48" y="37"/>
                    </a:lnTo>
                    <a:lnTo>
                      <a:pt x="19" y="50"/>
                    </a:lnTo>
                    <a:lnTo>
                      <a:pt x="0" y="28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510600" y="4831560"/>
                <a:ext cx="192240" cy="183960"/>
              </a:xfrm>
              <a:custGeom>
                <a:avLst/>
                <a:gdLst/>
                <a:ahLst/>
                <a:rect l="l" t="t" r="r" b="b"/>
                <a:pathLst>
                  <a:path w="47" h="51">
                    <a:moveTo>
                      <a:pt x="31" y="0"/>
                    </a:moveTo>
                    <a:lnTo>
                      <a:pt x="0" y="37"/>
                    </a:lnTo>
                    <a:lnTo>
                      <a:pt x="28" y="51"/>
                    </a:lnTo>
                    <a:lnTo>
                      <a:pt x="47" y="28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222600" y="4999680"/>
                <a:ext cx="192240" cy="109440"/>
              </a:xfrm>
              <a:custGeom>
                <a:avLst/>
                <a:gdLst/>
                <a:ahLst/>
                <a:rect l="l" t="t" r="r" b="b"/>
                <a:pathLst>
                  <a:path w="47" h="30">
                    <a:moveTo>
                      <a:pt x="9" y="30"/>
                    </a:moveTo>
                    <a:lnTo>
                      <a:pt x="37" y="30"/>
                    </a:lnTo>
                    <a:lnTo>
                      <a:pt x="47" y="0"/>
                    </a:lnTo>
                    <a:lnTo>
                      <a:pt x="0" y="0"/>
                    </a:lnTo>
                    <a:lnTo>
                      <a:pt x="9" y="30"/>
                    </a:lnTo>
                    <a:close/>
                  </a:path>
                </a:pathLst>
              </a:custGeom>
              <a:solidFill>
                <a:srgbClr val="808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969160" y="4357440"/>
                <a:ext cx="696240" cy="652320"/>
              </a:xfrm>
              <a:prstGeom prst="ellipse">
                <a:avLst/>
              </a:prstGeom>
              <a:solidFill>
                <a:srgbClr val="80808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232320" y="4597200"/>
                <a:ext cx="257760" cy="24336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207120" y="4572360"/>
                <a:ext cx="257760" cy="24336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207120" y="4572360"/>
                <a:ext cx="270360" cy="25236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189480" y="4554000"/>
                <a:ext cx="250200" cy="236880"/>
              </a:xfrm>
              <a:prstGeom prst="ellipse">
                <a:avLst/>
              </a:prstGeom>
              <a:solidFill>
                <a:srgbClr val="80808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5785560" y="5205960"/>
              <a:ext cx="1105920" cy="99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5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compiler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link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6853320" y="4670280"/>
            <a:ext cx="33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Test-Case Generator using logged Field-Test Traces, R.Kieß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4CEE-0E28-4259-AA64-77AE598A704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22/04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4T21:56:40Z</dcterms:created>
  <dc:creator>Ted Moody</dc:creator>
  <dc:description/>
  <dc:language>en-US</dc:language>
  <cp:lastModifiedBy>Ronny Kiessling</cp:lastModifiedBy>
  <dcterms:modified xsi:type="dcterms:W3CDTF">2004-01-07T18:58:54Z</dcterms:modified>
  <cp:revision>110</cp:revision>
  <dc:subject/>
  <dc:title>Preparing PPT for Presentation</dc:title>
</cp:coreProperties>
</file>